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5CB-B55E-4BC5-8208-23B51BA3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721-0F0E-4DC9-9A82-FA19437B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505-1D3E-4FFB-B92A-1187AE7C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FE00-52B0-40C4-8805-DE481C85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38DE-30A5-40E4-8ECE-4B52BFAA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C26F-A311-4316-9077-8BA698F4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504A-89AE-49DC-9A34-D4D1F7BE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EACB-92CE-4EC0-9078-95190D5C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ECCE-4E0E-4F08-A338-EC620602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580F-8BE5-4076-A089-910A2A5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7B68-5074-4072-B805-959504C4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7F0-376F-403D-A9E0-1BA82FA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BEB1-C4CA-4FF0-A9D8-6D944963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A7BF-4892-44ED-8F10-D57A9374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50D4-206F-4C7C-90A9-53E71433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791A-8915-46C0-8D24-CF70DD58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0516-0439-4A9A-98CC-F0EC8A4D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673-4D12-486C-9D81-553B2843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A73-1D85-4175-B56E-DE5C95AE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7A2-C0EA-4246-896B-29318DE7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883-CE8B-45CF-9171-21E6D2ED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FE8-F9B2-4ECE-A236-E0475C10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F68-B27D-4E29-B92E-6D65176D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3F4-407F-465C-BA09-1D98541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3C15-4423-472A-8368-06D4A2DCFD8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009F-E49A-4E9E-8646-C484B5CC337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2352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GIVE US A KING”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The United Kingdom, Part 2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Quarter 4, Lesson 9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1 Kings 2, Pages 110-114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David’s Charge to Solomo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-9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strong and courageou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bey the Lord’s commandmen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avid’s advice concerning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oab; do not let him go to the grave in pea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arzillai; show kindness to his son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imei; bring him down to the grave in blood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The Death of David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0-12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ived 70 yea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igned 40 yea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Hebron, 7 yea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Jerusalem, 33 yea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ried in city of David (Jerusalem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now established as king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Adonijah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3-25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donijah wanted Abishag for his wif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till bitter that he was not king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ent to Bathsheba to get Solomon’s permissio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lomon outraged at the request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aw through the scheme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Knew what it would mean if granted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naiah told to kill Adonija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Abiathar Banished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26-27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biathar had helped Adonija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pared the death sentenc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moved from the priesthoo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ulfilled God’s promise at Shiloh that the priesthood would depart from Eli’s house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(1 Sam. 2:13-35)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nathoth became his pris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Zadok made priest - returned the priesthood to the family of Eliez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Joab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28-35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oab heard Adonijah killed and Abiathar banished; knew his fat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ook refuge in the tabernacle to plead for merc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oab had killed men (Abner and Amasa) better than hi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told Benaiah to killed Joab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emember the rule of Ex. 21:14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naiah became commander of the arm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Shimei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36-46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“grounds” Shimei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fter 3 years, Shimei violates his parol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reminded him of his oath to Go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imei Put To Deat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has now “cleaned house” of his father’s enemi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876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07:05Z</dcterms:created>
  <dc:creator>Don Vines</dc:creator>
  <dc:description/>
  <dc:language>en-US</dc:language>
  <cp:lastModifiedBy>Don Vines</cp:lastModifiedBy>
  <dcterms:modified xsi:type="dcterms:W3CDTF">2005-08-05T16:06:29Z</dcterms:modified>
  <cp:revision>9</cp:revision>
  <dc:subject/>
  <dc:title>GIVE US A KING The United Kingdom, Part 2</dc:title>
</cp:coreProperties>
</file>